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1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5AD-F21B-4520-9F59-E7C08C3DBB1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D6A7-7922-4DEF-B1BF-DE21FCA406D3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2B4-E644-454E-B24E-D8AD02DDA2A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76E-A59A-43FE-B262-0509204F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39F-FDF1-447F-995D-2C1BCA4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D79-BA5D-4874-AEB8-72B1DD5B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221-5153-40D4-9ED9-0667D758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162-7EF8-4699-A6F1-166DAAA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F96-92CC-4D19-8A2B-C4D2DC5B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570-707D-4171-BE2E-54B7F449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097-940D-434D-B64D-FB91EECF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23C-1E97-4ACD-86C6-DDB3632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BD6-76F1-47A1-8C25-C737BA9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CBF-0708-4865-BF44-725BB49A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FDE-1B42-4B09-89AF-61DC76F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D33-F0BD-41A2-A372-760D0D1777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714240"/>
            <a:ext cx="2643120" cy="301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500720"/>
            <a:ext cx="2125800" cy="19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880" y="3786120"/>
            <a:ext cx="2351160" cy="245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bn0.google.com/images?q=tbn:CcgQhy2MHcUoBM:http://www.granjasdeluruguay.com.uy/materiales/verduras-00.jpg"/>
          <p:cNvPicPr/>
          <p:nvPr/>
        </p:nvPicPr>
        <p:blipFill>
          <a:blip r:embed="rId7"/>
          <a:stretch/>
        </p:blipFill>
        <p:spPr>
          <a:xfrm>
            <a:off x="5357880" y="314316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tbn0.google.com/images?q=tbn:I4KwKBNfdBz16M:http://www.mygomera.de/fotos/04-09-17_fischer/pescados_800.jpg"/>
          <p:cNvPicPr/>
          <p:nvPr/>
        </p:nvPicPr>
        <p:blipFill>
          <a:blip r:embed="rId8"/>
          <a:stretch/>
        </p:blipFill>
        <p:spPr>
          <a:xfrm>
            <a:off x="3500280" y="785880"/>
            <a:ext cx="2508480" cy="187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9"/>
          <a:stretch/>
        </p:blipFill>
        <p:spPr>
          <a:xfrm>
            <a:off x="2714760" y="378612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arne sana"/>
          <p:cNvPicPr/>
          <p:nvPr/>
        </p:nvPicPr>
        <p:blipFill>
          <a:blip r:embed="rId10"/>
          <a:stretch/>
        </p:blipFill>
        <p:spPr>
          <a:xfrm>
            <a:off x="785880" y="1857240"/>
            <a:ext cx="2592360" cy="195444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ANd9GcSKID_fqN0x19q6BOqvGOSMTNEoSZqVAzYg8lIN-PnuUV8RjeQJ"/>
          <p:cNvPicPr/>
          <p:nvPr/>
        </p:nvPicPr>
        <p:blipFill>
          <a:blip r:embed="rId11"/>
          <a:stretch/>
        </p:blipFill>
        <p:spPr>
          <a:xfrm>
            <a:off x="6929280" y="4572000"/>
            <a:ext cx="1378080" cy="2033640"/>
          </a:xfrm>
          <a:prstGeom prst="rect">
            <a:avLst/>
          </a:prstGeom>
          <a:ln w="0">
            <a:noFill/>
          </a:ln>
        </p:spPr>
      </p:pic>
      <p:sp>
        <p:nvSpPr>
          <p:cNvPr id="57" name="16 Rectángulo"/>
          <p:cNvSpPr/>
          <p:nvPr/>
        </p:nvSpPr>
        <p:spPr>
          <a:xfrm>
            <a:off x="214200" y="857160"/>
            <a:ext cx="8715600" cy="67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TEMA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MINERALES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rincipales componentes minerales del organismo. Ubicación celular. Requerimientos. Funciones. Absorción. Homeost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VITAMIN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Clasificación. Vitaminas liposolubles e hidrosolubles. Propiedades generales. Estructura química. Papel funcional de las vitaminas en las vías metabólicas. Provitaminas. Metabolismo. Bioquímica de las avitami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FUENTES NATURALES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207880"/>
            <a:ext cx="619128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CHE Y SUS DE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3701880"/>
            <a:ext cx="8820000" cy="3115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350-55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-10 años): 80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olescentes, embarazo y lacta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.20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70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encrypted-tbn2.gstatic.com/images?q=tbn:ANd9GcTNMBkj5tJvLU9Bl3CFiadTAlyfvC9jQpSsNyXsMw2G8aHLZvvbDg"/>
          <p:cNvPicPr/>
          <p:nvPr/>
        </p:nvPicPr>
        <p:blipFill>
          <a:blip r:embed="rId1"/>
          <a:stretch/>
        </p:blipFill>
        <p:spPr>
          <a:xfrm>
            <a:off x="6072120" y="1643040"/>
            <a:ext cx="2979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ABSOR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900000" y="3281400"/>
            <a:ext cx="1344600" cy="1871640"/>
            <a:chOff x="900000" y="3281400"/>
            <a:chExt cx="1344600" cy="1871640"/>
          </a:xfrm>
        </p:grpSpPr>
        <p:sp>
          <p:nvSpPr>
            <p:cNvPr id="108" name="Freeform 4"/>
            <p:cNvSpPr/>
            <p:nvPr/>
          </p:nvSpPr>
          <p:spPr>
            <a:xfrm>
              <a:off x="900000" y="328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1163520" y="32893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6"/>
          <p:cNvSpPr/>
          <p:nvPr/>
        </p:nvSpPr>
        <p:spPr>
          <a:xfrm rot="19789800">
            <a:off x="684720" y="49366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1657440" y="2705040"/>
            <a:ext cx="1296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1258920" y="184140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70560" y="1625760"/>
            <a:ext cx="3787560" cy="13816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ACTIVO Trans-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ON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3143160" y="1785960"/>
            <a:ext cx="1428840" cy="285840"/>
          </a:xfrm>
          <a:custGeom>
            <a:avLst/>
            <a:gdLst>
              <a:gd name="textAreaLeft" fmla="*/ 297720 w 1428840"/>
              <a:gd name="textAreaRight" fmla="*/ 123768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9" hR="21600" stAng="10800000" swAng="5400000"/>
                <a:lnTo>
                  <a:pt x="14206" y="0"/>
                </a:lnTo>
                <a:arcTo wR="9009" hR="21600" stAng="-5400000" swAng="2982762"/>
                <a:lnTo>
                  <a:pt x="21085" y="14400"/>
                </a:lnTo>
                <a:lnTo>
                  <a:pt x="20617" y="21600"/>
                </a:lnTo>
                <a:lnTo>
                  <a:pt x="19118" y="14400"/>
                </a:lnTo>
                <a:lnTo>
                  <a:pt x="17503" y="14400"/>
                </a:lnTo>
                <a:arcTo wR="9009" hR="21600" stAng="-2417238" swAng="-2553093"/>
                <a:lnTo>
                  <a:pt x="11608" y="918"/>
                </a:lnTo>
                <a:arcTo wR="9009" hR="21600" stAng="-5829669" swAng="-4970331"/>
                <a:close/>
              </a:path>
              <a:path fill="darkenLess" w="21600" h="21600">
                <a:moveTo>
                  <a:pt x="0" y="21600"/>
                </a:moveTo>
                <a:arcTo wR="9009" hR="21600" stAng="10800000" swAng="5400000"/>
                <a:lnTo>
                  <a:pt x="9009" y="0"/>
                </a:lnTo>
                <a:arcTo wR="9009" hR="21600" stAng="-5400000" swAng="429669"/>
                <a:lnTo>
                  <a:pt x="11608" y="918"/>
                </a:lnTo>
                <a:arcTo wR="9009" hR="21600" stAng="-5829669" swAng="-4970331"/>
                <a:close/>
              </a:path>
            </a:pathLst>
          </a:custGeom>
          <a:solidFill>
            <a:srgbClr val="2aa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143240" y="5072040"/>
            <a:ext cx="1800360" cy="433440"/>
          </a:xfrm>
          <a:prstGeom prst="rightArrow">
            <a:avLst>
              <a:gd name="adj1" fmla="val 50000"/>
              <a:gd name="adj2" fmla="val 1038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858000" y="4643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5500800" y="3929040"/>
            <a:ext cx="17859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++ATP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 rot="2503800">
            <a:off x="3578760" y="3982680"/>
            <a:ext cx="2249640" cy="459720"/>
          </a:xfrm>
          <a:prstGeom prst="rect">
            <a:avLst/>
          </a:prstGeom>
          <a:solidFill>
            <a:srgbClr val="eb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-Calbi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7"/>
          <p:cNvSpPr/>
          <p:nvPr/>
        </p:nvSpPr>
        <p:spPr>
          <a:xfrm>
            <a:off x="6227640" y="3645000"/>
            <a:ext cx="166680" cy="26636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0"/>
          <p:cNvGrpSpPr/>
          <p:nvPr/>
        </p:nvGrpSpPr>
        <p:grpSpPr>
          <a:xfrm>
            <a:off x="3786120" y="4286160"/>
            <a:ext cx="720720" cy="936720"/>
            <a:chOff x="3786120" y="4286160"/>
            <a:chExt cx="720720" cy="936720"/>
          </a:xfrm>
        </p:grpSpPr>
        <p:sp>
          <p:nvSpPr>
            <p:cNvPr id="121" name="Oval 18"/>
            <p:cNvSpPr/>
            <p:nvPr/>
          </p:nvSpPr>
          <p:spPr>
            <a:xfrm>
              <a:off x="3786120" y="4359240"/>
              <a:ext cx="720720" cy="863640"/>
            </a:xfrm>
            <a:prstGeom prst="ellipse">
              <a:avLst/>
            </a:prstGeom>
            <a:solidFill>
              <a:srgbClr val="ec372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9"/>
            <p:cNvSpPr/>
            <p:nvPr/>
          </p:nvSpPr>
          <p:spPr>
            <a:xfrm>
              <a:off x="3932280" y="4286160"/>
              <a:ext cx="503280" cy="64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21"/>
          <p:cNvSpPr/>
          <p:nvPr/>
        </p:nvSpPr>
        <p:spPr>
          <a:xfrm>
            <a:off x="6643800" y="535788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357960" y="342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b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6215040" y="371628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1 Flecha curvada hacia arriba"/>
          <p:cNvSpPr/>
          <p:nvPr/>
        </p:nvSpPr>
        <p:spPr>
          <a:xfrm rot="20887200">
            <a:off x="3429000" y="2720880"/>
            <a:ext cx="1357200" cy="501840"/>
          </a:xfrm>
          <a:custGeom>
            <a:avLst/>
            <a:gdLst>
              <a:gd name="textAreaLeft" fmla="*/ 292320 w 1357200"/>
              <a:gd name="textAreaRight" fmla="*/ 1002240 w 135720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03" hR="21600" stAng="10800000" swAng="-5400000"/>
                <a:lnTo>
                  <a:pt x="11299" y="21600"/>
                </a:lnTo>
                <a:arcTo wR="9303" hR="21600" stAng="5400000" swAng="-3543453"/>
                <a:lnTo>
                  <a:pt x="21305" y="5400"/>
                </a:lnTo>
                <a:lnTo>
                  <a:pt x="19604" y="0"/>
                </a:lnTo>
                <a:lnTo>
                  <a:pt x="17313" y="5400"/>
                </a:lnTo>
                <a:lnTo>
                  <a:pt x="18311" y="5400"/>
                </a:lnTo>
                <a:arcTo wR="9303" hR="21600" stAng="1856547" swAng="3383809"/>
                <a:lnTo>
                  <a:pt x="10301" y="21475"/>
                </a:lnTo>
                <a:arcTo wR="9303" hR="21600" stAng="5559644" swAng="5240356"/>
                <a:close/>
              </a:path>
              <a:path fill="darkenLess" w="21600" h="21600">
                <a:moveTo>
                  <a:pt x="0" y="0"/>
                </a:moveTo>
                <a:arcTo wR="9303" hR="21600" stAng="10800000" swAng="-5400000"/>
                <a:lnTo>
                  <a:pt x="11299" y="21600"/>
                </a:lnTo>
                <a:arcTo wR="9303" hR="21600" stAng="5400000" swAng="159644"/>
                <a:lnTo>
                  <a:pt x="10301" y="21475"/>
                </a:lnTo>
                <a:arcTo wR="9303" hR="21600" stAng="5559644" swAng="5240356"/>
                <a:close/>
              </a:path>
            </a:pathLst>
          </a:cu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3714840" y="3797280"/>
            <a:ext cx="166680" cy="26640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071880" y="5919840"/>
            <a:ext cx="285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a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ERO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 flipH="1" flipV="1">
            <a:off x="3786120" y="5786280"/>
            <a:ext cx="285840" cy="28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EGULACIÓN DE LA ABSORCIÓN DE CALCIO EN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357120" y="2133720"/>
            <a:ext cx="327816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CÍ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t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c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39640" y="4357800"/>
            <a:ext cx="3246480" cy="195084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F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legumbres, cere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OXÁ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espinacas, té, caf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80000" y="2565360"/>
            <a:ext cx="1296720" cy="432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851280" y="515772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219640" y="2060640"/>
            <a:ext cx="3240000" cy="94716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N LA 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292720" y="4500720"/>
            <a:ext cx="3240000" cy="1696320"/>
          </a:xfrm>
          <a:prstGeom prst="rect">
            <a:avLst/>
          </a:prstGeom>
          <a:solidFill>
            <a:srgbClr val="ea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ALES INSOL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IDE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EXCRECIÓ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&lt;&lt; 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2700360" y="1916280"/>
            <a:ext cx="1584360" cy="433080"/>
          </a:xfrm>
          <a:prstGeom prst="rightArrow">
            <a:avLst>
              <a:gd name="adj1" fmla="val 50000"/>
              <a:gd name="adj2" fmla="val 91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427640" y="1484280"/>
            <a:ext cx="3673440" cy="180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++ plas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filtra el 6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ese se reabsorbe el 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843280" y="1197000"/>
            <a:ext cx="33130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na. PARA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250920" y="3284640"/>
            <a:ext cx="2592360" cy="1287360"/>
          </a:xfrm>
          <a:prstGeom prst="ellipse">
            <a:avLst/>
          </a:prstGeom>
          <a:solidFill>
            <a:srgbClr val="faed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,25 (OH)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(Calcitri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26920" y="1773360"/>
            <a:ext cx="1295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[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468360" y="1268280"/>
            <a:ext cx="287280" cy="960480"/>
          </a:xfrm>
          <a:prstGeom prst="downArrow">
            <a:avLst>
              <a:gd name="adj1" fmla="val 50000"/>
              <a:gd name="adj2" fmla="val 835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2050920" y="177336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770520" y="1413000"/>
            <a:ext cx="20163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vilización    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sor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8317080" y="2182680"/>
            <a:ext cx="629640" cy="1746360"/>
            <a:chOff x="8317080" y="2182680"/>
            <a:chExt cx="629640" cy="1746360"/>
          </a:xfrm>
        </p:grpSpPr>
        <p:pic>
          <p:nvPicPr>
            <p:cNvPr id="149" name="Picture 12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8317080" y="218268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13"/>
            <p:cNvSpPr/>
            <p:nvPr/>
          </p:nvSpPr>
          <p:spPr>
            <a:xfrm>
              <a:off x="8317080" y="28807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8820720" y="293832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3564000" y="4509000"/>
            <a:ext cx="1746360" cy="629640"/>
            <a:chOff x="3564000" y="4509000"/>
            <a:chExt cx="1746360" cy="629640"/>
          </a:xfrm>
        </p:grpSpPr>
        <p:pic>
          <p:nvPicPr>
            <p:cNvPr id="153" name="Picture 16" descr="metabolismo del Ca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4141440" y="396972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7"/>
            <p:cNvSpPr/>
            <p:nvPr/>
          </p:nvSpPr>
          <p:spPr>
            <a:xfrm rot="16200000">
              <a:off x="4402800" y="48715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rot="16200000">
              <a:off x="4460400" y="43678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9"/>
          <p:cNvGrpSpPr/>
          <p:nvPr/>
        </p:nvGrpSpPr>
        <p:grpSpPr>
          <a:xfrm>
            <a:off x="3924360" y="3357720"/>
            <a:ext cx="576000" cy="939600"/>
            <a:chOff x="3924360" y="3357720"/>
            <a:chExt cx="576000" cy="939600"/>
          </a:xfrm>
        </p:grpSpPr>
        <p:sp>
          <p:nvSpPr>
            <p:cNvPr id="157" name="Freeform 20"/>
            <p:cNvSpPr/>
            <p:nvPr/>
          </p:nvSpPr>
          <p:spPr>
            <a:xfrm>
              <a:off x="3924360" y="3357720"/>
              <a:ext cx="514440" cy="93960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4037040" y="3361680"/>
              <a:ext cx="463320" cy="8672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4932360" y="3213000"/>
            <a:ext cx="3497400" cy="101592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ón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TCel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5908680" y="4365720"/>
            <a:ext cx="2878200" cy="101592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250920" y="5084640"/>
            <a:ext cx="2592360" cy="1152720"/>
          </a:xfrm>
          <a:prstGeom prst="ellipse">
            <a:avLst/>
          </a:prstGeom>
          <a:solidFill>
            <a:srgbClr val="e2b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6"/>
          <p:cNvSpPr/>
          <p:nvPr/>
        </p:nvSpPr>
        <p:spPr>
          <a:xfrm>
            <a:off x="2916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 flipV="1">
            <a:off x="3059280" y="3644640"/>
            <a:ext cx="79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3059280" y="4149720"/>
            <a:ext cx="50472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5292720" y="4869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924360" y="5661000"/>
            <a:ext cx="3147840" cy="459720"/>
          </a:xfrm>
          <a:prstGeom prst="rect">
            <a:avLst/>
          </a:prstGeom>
          <a:solidFill>
            <a:srgbClr val="e2bcd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 ó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6137280" y="192564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Flecha abajo"/>
          <p:cNvSpPr/>
          <p:nvPr/>
        </p:nvSpPr>
        <p:spPr>
          <a:xfrm flipV="1">
            <a:off x="5072040" y="32860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2aa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Flecha abajo"/>
          <p:cNvSpPr/>
          <p:nvPr/>
        </p:nvSpPr>
        <p:spPr>
          <a:xfrm flipV="1">
            <a:off x="5072040" y="3786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2aa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2 Flecha abajo"/>
          <p:cNvSpPr/>
          <p:nvPr/>
        </p:nvSpPr>
        <p:spPr>
          <a:xfrm flipV="1">
            <a:off x="6000840" y="4929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2aa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3 Flecha abajo"/>
          <p:cNvSpPr/>
          <p:nvPr/>
        </p:nvSpPr>
        <p:spPr>
          <a:xfrm>
            <a:off x="6000840" y="44290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4500720" y="3714840"/>
            <a:ext cx="50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5 Flecha abajo"/>
          <p:cNvSpPr/>
          <p:nvPr/>
        </p:nvSpPr>
        <p:spPr>
          <a:xfrm>
            <a:off x="4071960" y="57150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14240" y="252360"/>
            <a:ext cx="5348520" cy="6605640"/>
          </a:xfrm>
          <a:prstGeom prst="rect">
            <a:avLst/>
          </a:prstGeom>
          <a:ln w="0">
            <a:noFill/>
          </a:ln>
        </p:spPr>
      </p:pic>
      <p:sp>
        <p:nvSpPr>
          <p:cNvPr id="175" name="23 Rectángulo"/>
          <p:cNvSpPr/>
          <p:nvPr/>
        </p:nvSpPr>
        <p:spPr>
          <a:xfrm>
            <a:off x="57150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BLANCO A. y BLANCO G., “Química Biológica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d. El Ateneo, 9a edic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CuadroTexto"/>
          <p:cNvSpPr/>
          <p:nvPr/>
        </p:nvSpPr>
        <p:spPr>
          <a:xfrm>
            <a:off x="5944680" y="2286000"/>
            <a:ext cx="29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Factores que afec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la homeostasis del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en el líquido extra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(L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agen"/>
          <p:cNvPicPr/>
          <p:nvPr/>
        </p:nvPicPr>
        <p:blipFill>
          <a:blip r:embed="rId1"/>
          <a:stretch/>
        </p:blipFill>
        <p:spPr>
          <a:xfrm>
            <a:off x="928800" y="1352520"/>
            <a:ext cx="5000400" cy="5357880"/>
          </a:xfrm>
          <a:prstGeom prst="rect">
            <a:avLst/>
          </a:prstGeom>
          <a:ln w="0">
            <a:noFill/>
          </a:ln>
        </p:spPr>
      </p:pic>
      <p:sp>
        <p:nvSpPr>
          <p:cNvPr id="178" name="4 Rectángulo"/>
          <p:cNvSpPr/>
          <p:nvPr/>
        </p:nvSpPr>
        <p:spPr>
          <a:xfrm>
            <a:off x="-357120" y="7113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HUESO NORMAL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HUESO CON OSTEOPO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436680" y="614844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osteopo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 adelgaza la zona cortical y aumenta el diámetro de la cavidad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DEFICIENCIA DE CALCIO</a:t>
            </a:r>
            <a:br>
              <a:rPr sz="2800"/>
            </a:b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n adultos: 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9 CuadroTexto"/>
          <p:cNvSpPr/>
          <p:nvPr/>
        </p:nvSpPr>
        <p:spPr>
          <a:xfrm>
            <a:off x="5320080" y="2786040"/>
            <a:ext cx="38044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(la epidemia silencio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umento de porosidad ó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Pérdida de masa ó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umento de riesgo de fra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ujeres posmenopáus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(bajos niveles de estróge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Varones mayores 6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CuadroTexto"/>
          <p:cNvSpPr/>
          <p:nvPr/>
        </p:nvSpPr>
        <p:spPr>
          <a:xfrm>
            <a:off x="1456200" y="57168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LIMENTOS FORTIFICADOS EN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://calciplus.com.ar/img/productos/firmeFrutilla-grande.png"/>
          <p:cNvPicPr/>
          <p:nvPr/>
        </p:nvPicPr>
        <p:blipFill>
          <a:blip r:embed="rId1"/>
          <a:stretch/>
        </p:blipFill>
        <p:spPr>
          <a:xfrm>
            <a:off x="214200" y="714240"/>
            <a:ext cx="2038320" cy="3448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www.ar.all.biz/img/ar/catalog/66632.png"/>
          <p:cNvPicPr/>
          <p:nvPr/>
        </p:nvPicPr>
        <p:blipFill>
          <a:blip r:embed="rId2"/>
          <a:stretch/>
        </p:blipFill>
        <p:spPr>
          <a:xfrm>
            <a:off x="3429000" y="1357200"/>
            <a:ext cx="2133720" cy="3057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Resultado de imagen para alimentos fortificados en calcio"/>
          <p:cNvPicPr/>
          <p:nvPr/>
        </p:nvPicPr>
        <p:blipFill>
          <a:blip r:embed="rId3"/>
          <a:stretch/>
        </p:blipFill>
        <p:spPr>
          <a:xfrm>
            <a:off x="571680" y="4500720"/>
            <a:ext cx="3085920" cy="1485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http://www.nutrinfo.com/imagenes/vademecum/leche_nido.jpg"/>
          <p:cNvPicPr/>
          <p:nvPr/>
        </p:nvPicPr>
        <p:blipFill>
          <a:blip r:embed="rId4"/>
          <a:stretch/>
        </p:blipFill>
        <p:spPr>
          <a:xfrm>
            <a:off x="5643720" y="3000240"/>
            <a:ext cx="2619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550800" y="0"/>
            <a:ext cx="10842480" cy="6357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14200" y="6343560"/>
            <a:ext cx="78012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SODIO  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acroelemento-Electro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0" y="1844640"/>
            <a:ext cx="4176720" cy="341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Liq. Extracelular   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Intracelular            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antenido por Na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,K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ATP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ue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85840" y="4000680"/>
            <a:ext cx="4071960" cy="116928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20 gr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427640" y="623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03640" y="5589720"/>
            <a:ext cx="4932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sma: [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]  135-145 mEq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http://www.radioimagina.cl/wp-content/blogs.dir/103/files/2013/02/running.jpg"/>
          <p:cNvPicPr/>
          <p:nvPr/>
        </p:nvPicPr>
        <p:blipFill>
          <a:blip r:embed="rId1"/>
          <a:stretch/>
        </p:blipFill>
        <p:spPr>
          <a:xfrm>
            <a:off x="357120" y="1285920"/>
            <a:ext cx="2571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14200" y="1428840"/>
          <a:ext cx="4357800" cy="283032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</a:tblGrid>
              <a:tr h="93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PRIM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96% del Peso Corpo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xígeno ( 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no   (C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ógeno ( 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trógeno ( 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alcio ( C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Fósforo ( P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714920" y="1428840"/>
          <a:ext cx="4357800" cy="2786040"/>
        </p:xfrm>
        <a:graphic>
          <a:graphicData uri="http://schemas.openxmlformats.org/drawingml/2006/table">
            <a:tbl>
              <a:tblPr/>
              <a:tblGrid>
                <a:gridCol w="2179440"/>
                <a:gridCol w="2178360"/>
              </a:tblGrid>
              <a:tr h="90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b6b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Potasio ( K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zufre ( 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Sodio ( Na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loro ( Cl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Magnesio ( M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erro ( F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000240" y="4286160"/>
          <a:ext cx="3357720" cy="241776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714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OLIGOELE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4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luor ( F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re  (Cu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odo(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ganeso ( M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inc ( Z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alto( C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</a:tbl>
          </a:graphicData>
        </a:graphic>
      </p:graphicFrame>
      <p:sp>
        <p:nvSpPr>
          <p:cNvPr id="62" name="16 CuadroTexto"/>
          <p:cNvSpPr/>
          <p:nvPr/>
        </p:nvSpPr>
        <p:spPr>
          <a:xfrm>
            <a:off x="0" y="-14292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ELEMEN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Calibri"/>
              </a:rPr>
              <a:t>(Elementos Bióg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En el organismo humano – Criterio CUANTITATIVO - Expresado en % de Peso Corp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5 CuadroTexto"/>
          <p:cNvSpPr/>
          <p:nvPr/>
        </p:nvSpPr>
        <p:spPr>
          <a:xfrm>
            <a:off x="5176800" y="357120"/>
            <a:ext cx="39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Repasemos de clases anterior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NCIONES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7487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porte de GLUCOSA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miento de la PRESION OSMOTICA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misión neuro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ENTES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 DE MES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NaCl, 43% 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A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723960" y="47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esta diaria recomenda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&lt; 3 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encrypted-tbn0.gstatic.com/images?q=tbn:ANd9GcQj14ngmxueL_Ez58sl81Xp8pQq-nH3o2tZ_SAuZyb6EDaflIPI2A"/>
          <p:cNvPicPr/>
          <p:nvPr/>
        </p:nvPicPr>
        <p:blipFill>
          <a:blip r:embed="rId1"/>
          <a:stretch/>
        </p:blipFill>
        <p:spPr>
          <a:xfrm>
            <a:off x="6429240" y="2786040"/>
            <a:ext cx="2372040" cy="1924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http://atenciogentgran.org/wp-content/uploads/2014/06/oms_recomienda_sal_ES.jpg"/>
          <p:cNvPicPr/>
          <p:nvPr/>
        </p:nvPicPr>
        <p:blipFill>
          <a:blip r:embed="rId2"/>
          <a:stretch/>
        </p:blipFill>
        <p:spPr>
          <a:xfrm>
            <a:off x="2071800" y="5270400"/>
            <a:ext cx="4786200" cy="1516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://guruderemedios.com/wp-content/uploads/2015/05/Los-alimentos-con-mas-sal-e1431174081312.jpg"/>
          <p:cNvPicPr/>
          <p:nvPr/>
        </p:nvPicPr>
        <p:blipFill>
          <a:blip r:embed="rId3"/>
          <a:stretch/>
        </p:blipFill>
        <p:spPr>
          <a:xfrm>
            <a:off x="6500880" y="1500120"/>
            <a:ext cx="19303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BSOR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1727280" y="2781360"/>
            <a:ext cx="1344600" cy="1871640"/>
            <a:chOff x="1727280" y="2781360"/>
            <a:chExt cx="1344600" cy="1871640"/>
          </a:xfrm>
        </p:grpSpPr>
        <p:sp>
          <p:nvSpPr>
            <p:cNvPr id="206" name="Freeform 6"/>
            <p:cNvSpPr/>
            <p:nvPr/>
          </p:nvSpPr>
          <p:spPr>
            <a:xfrm>
              <a:off x="1727280" y="27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1990800" y="27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 rot="19789800">
            <a:off x="1511640" y="4436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H="1">
            <a:off x="2484000" y="2205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826920" y="177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RANSPORTE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ANd9GcSKID_fqN0x19q6BOqvGOSMTNEoSZqVAzYg8lIN-PnuUV8RjeQJ"/>
          <p:cNvPicPr/>
          <p:nvPr/>
        </p:nvPicPr>
        <p:blipFill>
          <a:blip r:embed="rId1"/>
          <a:stretch/>
        </p:blipFill>
        <p:spPr>
          <a:xfrm>
            <a:off x="5435640" y="2276640"/>
            <a:ext cx="2401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LIMINA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2627280" y="285264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211640" y="292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2700360" y="371628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500720" y="3573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3780000" y="530064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580000" y="5229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érdida de líquid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2484360" y="170028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284720" y="17002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 (orina) - REGU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223" name="Group 3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225" name="Group 5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226" name="Picture 6" descr="ANd9GcRohrk3WzNfjQ0S1PJH4iY8DTtql8PnjnvEObAfzfZ7-E0CxFv2Tg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7" name="Rectangle 7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Line 8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Rectangle 9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0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MANEJO RENAL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236" name="Text Box 16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18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148360" y="2492280"/>
            <a:ext cx="356688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0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241" name="Text Box 21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3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244" name="Text Box 24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6"/>
          <p:cNvSpPr/>
          <p:nvPr/>
        </p:nvSpPr>
        <p:spPr>
          <a:xfrm>
            <a:off x="3492360" y="4292640"/>
            <a:ext cx="54356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99 %) Túb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 DE SODIO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157676"/>
              </a:gs>
              <a:gs pos="50000">
                <a:srgbClr val="2dffff"/>
              </a:gs>
              <a:gs pos="100000">
                <a:srgbClr val="1576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REGULACIÓN DE LA REABSORCIÓN DE SODIO EN RIÑÓN (túbulos re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324000" y="1341360"/>
            <a:ext cx="32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324000" y="3068640"/>
            <a:ext cx="32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250920" y="4724280"/>
            <a:ext cx="3240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TRIUR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427640" y="1484280"/>
            <a:ext cx="4608360" cy="116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BSORCIÓN de SODIO (TCpr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Glu ó Na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3419640" y="1484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780000" y="1701720"/>
            <a:ext cx="6490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3059280" y="2637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3276720" y="2637000"/>
            <a:ext cx="6490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580000" y="3357720"/>
            <a:ext cx="356400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BSORCIÓN de SO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Cdi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3635280" y="357336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4572000" y="3357720"/>
            <a:ext cx="360360" cy="863280"/>
          </a:xfrm>
          <a:prstGeom prst="upArrow">
            <a:avLst>
              <a:gd name="adj1" fmla="val 50000"/>
              <a:gd name="adj2" fmla="val 5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4932360" y="357336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4427640" y="522936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TRACION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3348000" y="4940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3708360" y="515772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3348000" y="5732640"/>
            <a:ext cx="647640" cy="28872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3708360" y="5950080"/>
            <a:ext cx="649440" cy="503280"/>
          </a:xfrm>
          <a:prstGeom prst="ellipse">
            <a:avLst/>
          </a:pr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4427640" y="609300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BSORCION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4"/>
          <p:cNvSpPr/>
          <p:nvPr/>
        </p:nvSpPr>
        <p:spPr>
          <a:xfrm>
            <a:off x="0" y="5157720"/>
            <a:ext cx="324000" cy="1511280"/>
          </a:xfrm>
          <a:prstGeom prst="downArrow">
            <a:avLst>
              <a:gd name="adj1" fmla="val 50000"/>
              <a:gd name="adj2" fmla="val 11661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0" y="1484280"/>
            <a:ext cx="324000" cy="2665440"/>
          </a:xfrm>
          <a:prstGeom prst="upArrow">
            <a:avLst>
              <a:gd name="adj1" fmla="val 50000"/>
              <a:gd name="adj2" fmla="val 205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www.drcormillot.com/old/modulos/articulos/images/993_galeria/06.png"/>
          <p:cNvPicPr/>
          <p:nvPr/>
        </p:nvPicPr>
        <p:blipFill>
          <a:blip r:embed="rId1"/>
          <a:stretch/>
        </p:blipFill>
        <p:spPr>
          <a:xfrm>
            <a:off x="928800" y="928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http://www.nutrinfo.com/imagenes/vademecum/express_sin_sal.jpg"/>
          <p:cNvPicPr/>
          <p:nvPr/>
        </p:nvPicPr>
        <p:blipFill>
          <a:blip r:embed="rId1"/>
          <a:stretch/>
        </p:blipFill>
        <p:spPr>
          <a:xfrm>
            <a:off x="2643120" y="185724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http://www.nutrinfo.com/imagenes/vademecum/caldo_knorr_sinsal_verdura.jpg"/>
          <p:cNvPicPr/>
          <p:nvPr/>
        </p:nvPicPr>
        <p:blipFill>
          <a:blip r:embed="rId2"/>
          <a:stretch/>
        </p:blipFill>
        <p:spPr>
          <a:xfrm>
            <a:off x="285840" y="857160"/>
            <a:ext cx="2095560" cy="2762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Resultado de imagen para alimentos sin sal"/>
          <p:cNvPicPr/>
          <p:nvPr/>
        </p:nvPicPr>
        <p:blipFill>
          <a:blip r:embed="rId3"/>
          <a:stretch/>
        </p:blipFill>
        <p:spPr>
          <a:xfrm>
            <a:off x="714240" y="4000680"/>
            <a:ext cx="2043360" cy="20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http://www.financialfood.es/index.php?view=galeria&amp;ff=1&amp;id=Alimentacion/4da3f3f55fb94&amp;type=jpg"/>
          <p:cNvPicPr/>
          <p:nvPr/>
        </p:nvPicPr>
        <p:blipFill>
          <a:blip r:embed="rId4"/>
          <a:stretch/>
        </p:blipFill>
        <p:spPr>
          <a:xfrm>
            <a:off x="3286080" y="4214880"/>
            <a:ext cx="1571760" cy="2381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http://www.blogdenutricion.com/i/Sales-sin-sodio.jpg"/>
          <p:cNvPicPr/>
          <p:nvPr/>
        </p:nvPicPr>
        <p:blipFill>
          <a:blip r:embed="rId5"/>
          <a:stretch/>
        </p:blipFill>
        <p:spPr>
          <a:xfrm>
            <a:off x="5143680" y="1214280"/>
            <a:ext cx="4182840" cy="2900520"/>
          </a:xfrm>
          <a:prstGeom prst="rect">
            <a:avLst/>
          </a:prstGeom>
          <a:ln w="0">
            <a:noFill/>
          </a:ln>
        </p:spPr>
      </p:pic>
      <p:sp>
        <p:nvSpPr>
          <p:cNvPr id="275" name="9 CuadroTexto"/>
          <p:cNvSpPr/>
          <p:nvPr/>
        </p:nvSpPr>
        <p:spPr>
          <a:xfrm>
            <a:off x="3026520" y="35712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ALIMENTOS HIPOS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8" descr="https://encrypted-tbn3.gstatic.com/images?q=tbn:ANd9GcQBB5F3qqwfAf7biBgLg7bUmSfgOVeZe__82OCx2G8_L2NYbCkp"/>
          <p:cNvPicPr/>
          <p:nvPr/>
        </p:nvPicPr>
        <p:blipFill>
          <a:blip r:embed="rId6"/>
          <a:stretch/>
        </p:blipFill>
        <p:spPr>
          <a:xfrm>
            <a:off x="5429160" y="4357800"/>
            <a:ext cx="346572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POTASIO</a:t>
            </a: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acroelemento-Electro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4932360" y="319896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IQUIDO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rincipal c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50920" y="1628640"/>
            <a:ext cx="403380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6 gr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292720" y="582948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Liq. Extracelular 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395280" y="4130640"/>
            <a:ext cx="4032360" cy="1584360"/>
          </a:xfrm>
          <a:prstGeom prst="ellipse">
            <a:avLst/>
          </a:prstGeom>
          <a:solidFill>
            <a:srgbClr val="2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OMBA N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 flipV="1">
            <a:off x="4500720" y="4279680"/>
            <a:ext cx="502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500720" y="5280120"/>
            <a:ext cx="718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85880" y="6143760"/>
            <a:ext cx="3384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4-5,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1" descr="https://encrypted-tbn2.gstatic.com/images?q=tbn:ANd9GcTdTuGe47jatmdQ8oKRaHmsH8QyJnxmUQEUYKFfxHjVvumTTIF3"/>
          <p:cNvPicPr/>
          <p:nvPr/>
        </p:nvPicPr>
        <p:blipFill>
          <a:blip r:embed="rId1"/>
          <a:stretch/>
        </p:blipFill>
        <p:spPr>
          <a:xfrm>
            <a:off x="5357880" y="1143000"/>
            <a:ext cx="29289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NCIONES DE LOS IONES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3700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metabolismo celular (re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ntenimiento del potencial de reposo de membrana (transmisión neuro-musc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a presión osmótica del líquido intra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quilibrio ácido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26920" y="5805360"/>
            <a:ext cx="7921800" cy="947160"/>
          </a:xfrm>
          <a:prstGeom prst="rect">
            <a:avLst/>
          </a:prstGeom>
          <a:solidFill>
            <a:srgbClr val="f8e6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LA ABSORCION DE K</a:t>
            </a:r>
            <a:r>
              <a:rPr b="1" lang="es-ES_tradnl" sz="28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 SE REALIZA A NIVEL 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2aa907"/>
                </a:solidFill>
                <a:latin typeface="Arial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ff0000"/>
                </a:solidFill>
                <a:latin typeface="Arial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ff0000"/>
                </a:solidFill>
                <a:latin typeface="Arial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" y="2428920"/>
            <a:ext cx="3960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</a:rPr>
              <a:t>ALIMENTOS BÁSICOS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S DE ENERG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572000" y="2428920"/>
            <a:ext cx="3960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(FACTORES DIETÉTICOS </a:t>
            </a:r>
            <a:r>
              <a:rPr b="1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ESENCIALES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0" y="0"/>
            <a:ext cx="9144000" cy="1749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IFICACION DE LOS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  <a:ea typeface="Calibri"/>
              </a:rPr>
              <a:t>Criterio: CANTIDAD REQUERIDA EN LA DIET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uadroTexto"/>
          <p:cNvSpPr/>
          <p:nvPr/>
        </p:nvSpPr>
        <p:spPr>
          <a:xfrm>
            <a:off x="392904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5 CuadroTexto"/>
          <p:cNvSpPr/>
          <p:nvPr/>
        </p:nvSpPr>
        <p:spPr>
          <a:xfrm>
            <a:off x="6462720" y="0"/>
            <a:ext cx="26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Repasem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clases anterior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ENTES NATURALES DE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5256000" cy="125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LA MAYORIA DE LOS ALIMENTOS FRES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&gt;&gt; BANANAS,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55640" y="378936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 recomendada: 5 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468360" y="4797360"/>
            <a:ext cx="180000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9"/>
          <p:cNvGrpSpPr/>
          <p:nvPr/>
        </p:nvGrpSpPr>
        <p:grpSpPr>
          <a:xfrm>
            <a:off x="2484360" y="4775040"/>
            <a:ext cx="1008000" cy="798840"/>
            <a:chOff x="2484360" y="4775040"/>
            <a:chExt cx="1008000" cy="798840"/>
          </a:xfrm>
        </p:grpSpPr>
        <p:sp>
          <p:nvSpPr>
            <p:cNvPr id="294" name="AutoShape 6"/>
            <p:cNvSpPr/>
            <p:nvPr/>
          </p:nvSpPr>
          <p:spPr>
            <a:xfrm>
              <a:off x="2484360" y="47750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844720" y="49924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3"/>
          <p:cNvGrpSpPr/>
          <p:nvPr/>
        </p:nvGrpSpPr>
        <p:grpSpPr>
          <a:xfrm>
            <a:off x="2484000" y="5656320"/>
            <a:ext cx="1368720" cy="798840"/>
            <a:chOff x="2484000" y="5656320"/>
            <a:chExt cx="1368720" cy="798840"/>
          </a:xfrm>
        </p:grpSpPr>
        <p:sp>
          <p:nvSpPr>
            <p:cNvPr id="297" name="AutoShape 10"/>
            <p:cNvSpPr/>
            <p:nvPr/>
          </p:nvSpPr>
          <p:spPr>
            <a:xfrm rot="10800000">
              <a:off x="2484000" y="5656320"/>
              <a:ext cx="431640" cy="792000"/>
            </a:xfrm>
            <a:prstGeom prst="upArrow">
              <a:avLst>
                <a:gd name="adj1" fmla="val 50000"/>
                <a:gd name="adj2" fmla="val 45872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2844720" y="587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2"/>
          <p:cNvSpPr/>
          <p:nvPr/>
        </p:nvSpPr>
        <p:spPr>
          <a:xfrm>
            <a:off x="3995640" y="4869000"/>
            <a:ext cx="4822920" cy="1381680"/>
          </a:xfrm>
          <a:prstGeom prst="rect">
            <a:avLst/>
          </a:prstGeom>
          <a:solidFill>
            <a:srgbClr val="fde7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IENEN ENFERMEDADES CARDIOVA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VASODILATAC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https://encrypted-tbn2.gstatic.com/images?q=tbn:ANd9GcQHXA-Uc8qwUwBCWGR8GfPVu8YB7F_V_QPyU3EFMEEQJg3WzhOzKQ"/>
          <p:cNvPicPr/>
          <p:nvPr/>
        </p:nvPicPr>
        <p:blipFill>
          <a:blip r:embed="rId1"/>
          <a:stretch/>
        </p:blipFill>
        <p:spPr>
          <a:xfrm>
            <a:off x="5756400" y="1428840"/>
            <a:ext cx="31734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INSU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1187280" y="1700280"/>
            <a:ext cx="3097440" cy="3384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1763640" y="3573360"/>
            <a:ext cx="1008000" cy="798840"/>
            <a:chOff x="1763640" y="3573360"/>
            <a:chExt cx="1008000" cy="798840"/>
          </a:xfrm>
        </p:grpSpPr>
        <p:sp>
          <p:nvSpPr>
            <p:cNvPr id="306" name="AutoShape 8"/>
            <p:cNvSpPr/>
            <p:nvPr/>
          </p:nvSpPr>
          <p:spPr>
            <a:xfrm>
              <a:off x="1763640" y="357336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2124000" y="3790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1"/>
          <p:cNvSpPr/>
          <p:nvPr/>
        </p:nvSpPr>
        <p:spPr>
          <a:xfrm rot="10800000">
            <a:off x="3924360" y="1125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40360" y="119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364000" y="2900520"/>
            <a:ext cx="27370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4"/>
          <p:cNvSpPr/>
          <p:nvPr/>
        </p:nvSpPr>
        <p:spPr>
          <a:xfrm>
            <a:off x="4357800" y="2643120"/>
            <a:ext cx="576000" cy="8636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3850920" y="33321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00720" y="340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4500720" y="4654440"/>
            <a:ext cx="502920" cy="505080"/>
          </a:xfrm>
          <a:prstGeom prst="ellipse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5651640" y="4149720"/>
            <a:ext cx="2592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-K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651640" y="4797360"/>
            <a:ext cx="280800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transportador     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835280" y="20620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/>
          <p:cNvSpPr/>
          <p:nvPr/>
        </p:nvSpPr>
        <p:spPr>
          <a:xfrm>
            <a:off x="514836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9 Triángulo isósceles"/>
          <p:cNvSpPr/>
          <p:nvPr/>
        </p:nvSpPr>
        <p:spPr>
          <a:xfrm>
            <a:off x="4500720" y="3000240"/>
            <a:ext cx="214200" cy="21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71280"/>
            <a:ext cx="896472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CATECOLAMINAS 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(Adrenalina y Noradrena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1187280" y="2349360"/>
            <a:ext cx="3097440" cy="3384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763640" y="4292640"/>
            <a:ext cx="1008000" cy="798840"/>
            <a:chOff x="1763640" y="4292640"/>
            <a:chExt cx="1008000" cy="798840"/>
          </a:xfrm>
        </p:grpSpPr>
        <p:sp>
          <p:nvSpPr>
            <p:cNvPr id="324" name="AutoShape 5"/>
            <p:cNvSpPr/>
            <p:nvPr/>
          </p:nvSpPr>
          <p:spPr>
            <a:xfrm>
              <a:off x="1763640" y="42926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2124000" y="4510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AutoShape 7"/>
          <p:cNvSpPr/>
          <p:nvPr/>
        </p:nvSpPr>
        <p:spPr>
          <a:xfrm rot="10800000">
            <a:off x="1143000" y="171468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1428840" y="1785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219640" y="2970360"/>
            <a:ext cx="3138480" cy="1432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 flipH="1">
            <a:off x="3850920" y="340200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4500720" y="347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1835280" y="278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5219640" y="4554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 flipH="1">
            <a:off x="3850920" y="49863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4500720" y="5059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4357800" y="2643120"/>
            <a:ext cx="576000" cy="8636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4357800" y="4214880"/>
            <a:ext cx="576000" cy="8636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20 Triángulo isósceles"/>
          <p:cNvSpPr/>
          <p:nvPr/>
        </p:nvSpPr>
        <p:spPr>
          <a:xfrm>
            <a:off x="4500720" y="3000240"/>
            <a:ext cx="214200" cy="21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21 Triángulo isósceles"/>
          <p:cNvSpPr/>
          <p:nvPr/>
        </p:nvSpPr>
        <p:spPr>
          <a:xfrm>
            <a:off x="4500720" y="457200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2 CuadroTexto"/>
          <p:cNvSpPr/>
          <p:nvPr/>
        </p:nvSpPr>
        <p:spPr>
          <a:xfrm>
            <a:off x="3652560" y="2214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ECOL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2085840" y="5857920"/>
            <a:ext cx="6272280" cy="862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dosterona:        Ingreso K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 hipercali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cuand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[K+] sang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4 Flecha abajo"/>
          <p:cNvSpPr/>
          <p:nvPr/>
        </p:nvSpPr>
        <p:spPr>
          <a:xfrm flipV="1">
            <a:off x="4071960" y="592848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25 Flecha abajo"/>
          <p:cNvSpPr/>
          <p:nvPr/>
        </p:nvSpPr>
        <p:spPr>
          <a:xfrm flipH="1" flipV="1">
            <a:off x="5571360" y="62866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030a0"/>
                </a:solidFill>
                <a:latin typeface="Arial"/>
              </a:rPr>
              <a:t>CLOR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5111640" y="1143000"/>
            <a:ext cx="4032360" cy="223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LIQUID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principal an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4716360" y="3789360"/>
            <a:ext cx="4176720" cy="21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102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q.cefalorraqu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r. gastrointestil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324000" y="5300640"/>
            <a:ext cx="38890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5 gr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https://encrypted-tbn2.gstatic.com/images?q=tbn:ANd9GcQeCLb2GigCBT3g_-X8x0UxRJPj-Pm4M4qJgSqCvpUd9mtuwkSL"/>
          <p:cNvPicPr/>
          <p:nvPr/>
        </p:nvPicPr>
        <p:blipFill>
          <a:blip r:embed="rId1"/>
          <a:stretch/>
        </p:blipFill>
        <p:spPr>
          <a:xfrm>
            <a:off x="571680" y="1571760"/>
            <a:ext cx="3971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FUNCIONES DE LOS IONES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 presión osmótica del líquido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ción de CLH  en estóm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57120" y="4286160"/>
            <a:ext cx="8496360" cy="15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GRESA CONJUNTAMENTE CO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UENTES NATURA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NaCl de sal de mesa, hevos, carnes, pes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285920" y="592920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: 100-200 mEq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ELIMINACION DE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2556000" y="342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78000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2627280" y="4581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635280" y="443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2484360" y="220500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4284720" y="1989000"/>
            <a:ext cx="3600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-550800" y="0"/>
            <a:ext cx="10842480" cy="6357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214200" y="6343560"/>
            <a:ext cx="78012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FUNCIONES del HIERR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OBLOBI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CR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INAS Fe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ASAS Y PEROXID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543640" y="19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14036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e</a:t>
            </a:r>
            <a:r>
              <a:rPr b="1" lang="es-ES_tradnl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211640" y="458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iminacio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80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5003640" y="1700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4067280" y="2852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1"/>
          <p:cNvSpPr/>
          <p:nvPr/>
        </p:nvSpPr>
        <p:spPr>
          <a:xfrm>
            <a:off x="3203640" y="5661000"/>
            <a:ext cx="72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IERR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ENTE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229600" cy="242892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IMENTOS DE ORIGEN AN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Fe Hemo: rápida absor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GETALES -HOJAS VER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Fe no Hemo: absorción le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81080" y="3413160"/>
            <a:ext cx="8820000" cy="181800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uplementos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y Adu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8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barazada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&gt;  18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250920" y="5348160"/>
            <a:ext cx="2376360" cy="129564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érdida de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19640" y="5270400"/>
            <a:ext cx="5327640" cy="1595880"/>
          </a:xfrm>
          <a:prstGeom prst="rect">
            <a:avLst/>
          </a:prstGeom>
          <a:solidFill>
            <a:srgbClr val="e2b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ambio cél. Intestinales y epite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2771640" y="59259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https://bellezadesalud.files.wordpress.com/2012/05/vegetales-hoja-verde-oscura-lavidale.jpeg"/>
          <p:cNvPicPr/>
          <p:nvPr/>
        </p:nvPicPr>
        <p:blipFill>
          <a:blip r:embed="rId1"/>
          <a:stretch/>
        </p:blipFill>
        <p:spPr>
          <a:xfrm>
            <a:off x="6286680" y="2000160"/>
            <a:ext cx="1415880" cy="139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http://thumbs.dreamstime.com/x/iron-rich-foods-19497368.jpg"/>
          <p:cNvPicPr/>
          <p:nvPr/>
        </p:nvPicPr>
        <p:blipFill>
          <a:blip r:embed="rId2"/>
          <a:stretch/>
        </p:blipFill>
        <p:spPr>
          <a:xfrm>
            <a:off x="7286760" y="7858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2336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CuadroTexto"/>
          <p:cNvSpPr/>
          <p:nvPr/>
        </p:nvSpPr>
        <p:spPr>
          <a:xfrm>
            <a:off x="403200" y="285840"/>
            <a:ext cx="8597880" cy="563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RUEBA DIAGNÓ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TESTA  CON VERDADERO O FALSO CADA PRE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COMIENZO Y FINAL DEL ESTUDIO D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)-Los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inerales,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unque en cantidades muy pequeñas, tienen que ser necesariamente aportados por la dieta ……………………….………..V…………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)- Para cubrir las necesidades de minerales, la dieta tiene que ser mixta y variada…………………………………………………………………………….….V…….….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)- Las verduras y frutos secos son buenas fuentes de minerales……….V…………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)- La actividad física aumenta las pérdidas de calcio óseo……………...V…………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)- Las deficiencias en hierro conducen a trastornos orgánicos, especialmente en adolescentes y mujeres gestantes …………………………….………………V…………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)- Suplementar la dieta con complejos de minerales sin supervisión de especi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ede provocar excesos que conducen a alteraciones orgánicas………..V……..……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)- El hierro que aportan los vegetales se absorbe mejor que el que aportan las carnes…………………………………………………………………………………..V...............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642960" y="76320"/>
            <a:ext cx="4429080" cy="6630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85840" y="0"/>
            <a:ext cx="4357800" cy="868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ON DE HI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3 Rectángulo"/>
          <p:cNvSpPr/>
          <p:nvPr/>
        </p:nvSpPr>
        <p:spPr>
          <a:xfrm>
            <a:off x="5929200" y="6215040"/>
            <a:ext cx="32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BLANCO A. y BLANCO G., “Química Biológica”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d. El Ateneo, 9a edic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"/>
          <p:cNvSpPr/>
          <p:nvPr/>
        </p:nvSpPr>
        <p:spPr>
          <a:xfrm>
            <a:off x="5572080" y="200016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-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0"/>
          <p:cNvSpPr/>
          <p:nvPr/>
        </p:nvSpPr>
        <p:spPr>
          <a:xfrm>
            <a:off x="6929280" y="321480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500800" y="3500280"/>
            <a:ext cx="3384360" cy="862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0 CuadroTexto"/>
          <p:cNvSpPr/>
          <p:nvPr/>
        </p:nvSpPr>
        <p:spPr>
          <a:xfrm>
            <a:off x="919440" y="6059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7000200" y="721800"/>
            <a:ext cx="1661760" cy="2093400"/>
            <a:chOff x="7000200" y="721800"/>
            <a:chExt cx="1661760" cy="2093400"/>
          </a:xfrm>
        </p:grpSpPr>
        <p:sp>
          <p:nvSpPr>
            <p:cNvPr id="389" name="Freeform 4"/>
            <p:cNvSpPr/>
            <p:nvPr/>
          </p:nvSpPr>
          <p:spPr>
            <a:xfrm rot="20914200">
              <a:off x="7173720" y="84312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 rot="20914200">
              <a:off x="7420320" y="81144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6"/>
          <p:cNvSpPr/>
          <p:nvPr/>
        </p:nvSpPr>
        <p:spPr>
          <a:xfrm rot="19789800">
            <a:off x="5182920" y="1568520"/>
            <a:ext cx="262728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CuadroTexto"/>
          <p:cNvSpPr/>
          <p:nvPr/>
        </p:nvSpPr>
        <p:spPr>
          <a:xfrm>
            <a:off x="506520" y="200016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ERO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4"/>
          <p:cNvSpPr/>
          <p:nvPr/>
        </p:nvSpPr>
        <p:spPr>
          <a:xfrm>
            <a:off x="0" y="4797360"/>
            <a:ext cx="4284720" cy="2060640"/>
          </a:xfrm>
          <a:prstGeom prst="rect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727920" y="2530080"/>
            <a:ext cx="1661760" cy="2093400"/>
            <a:chOff x="727920" y="2530080"/>
            <a:chExt cx="1661760" cy="2093400"/>
          </a:xfrm>
        </p:grpSpPr>
        <p:sp>
          <p:nvSpPr>
            <p:cNvPr id="396" name="Freeform 4"/>
            <p:cNvSpPr/>
            <p:nvPr/>
          </p:nvSpPr>
          <p:spPr>
            <a:xfrm rot="20914200">
              <a:off x="901440" y="265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 rot="20914200">
              <a:off x="1148040" y="26197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 rot="19789800">
            <a:off x="1259280" y="3789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 flipH="1">
            <a:off x="2195280" y="2997360"/>
            <a:ext cx="54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"/>
          <p:cNvSpPr/>
          <p:nvPr/>
        </p:nvSpPr>
        <p:spPr>
          <a:xfrm>
            <a:off x="1116000" y="162864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4570560" y="1625760"/>
            <a:ext cx="3384360" cy="101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2"/>
          <p:cNvSpPr/>
          <p:nvPr/>
        </p:nvSpPr>
        <p:spPr>
          <a:xfrm>
            <a:off x="3635280" y="3500280"/>
            <a:ext cx="302436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3"/>
          <p:cNvSpPr/>
          <p:nvPr/>
        </p:nvSpPr>
        <p:spPr>
          <a:xfrm>
            <a:off x="6804000" y="3645000"/>
            <a:ext cx="79236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4"/>
          <p:cNvSpPr/>
          <p:nvPr/>
        </p:nvSpPr>
        <p:spPr>
          <a:xfrm>
            <a:off x="6732720" y="5157720"/>
            <a:ext cx="1657080" cy="115272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+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5"/>
          <p:cNvSpPr/>
          <p:nvPr/>
        </p:nvSpPr>
        <p:spPr>
          <a:xfrm>
            <a:off x="5003640" y="357336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6"/>
          <p:cNvSpPr/>
          <p:nvPr/>
        </p:nvSpPr>
        <p:spPr>
          <a:xfrm>
            <a:off x="3708360" y="422100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7"/>
          <p:cNvSpPr/>
          <p:nvPr/>
        </p:nvSpPr>
        <p:spPr>
          <a:xfrm>
            <a:off x="5148360" y="4941720"/>
            <a:ext cx="1295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8"/>
          <p:cNvSpPr/>
          <p:nvPr/>
        </p:nvSpPr>
        <p:spPr>
          <a:xfrm flipH="1">
            <a:off x="4571640" y="429264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4427640" y="3789360"/>
            <a:ext cx="3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0"/>
          <p:cNvSpPr/>
          <p:nvPr/>
        </p:nvSpPr>
        <p:spPr>
          <a:xfrm flipH="1">
            <a:off x="3203640" y="5229360"/>
            <a:ext cx="72072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1"/>
          <p:cNvSpPr/>
          <p:nvPr/>
        </p:nvSpPr>
        <p:spPr>
          <a:xfrm>
            <a:off x="539640" y="522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po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2"/>
          <p:cNvSpPr/>
          <p:nvPr/>
        </p:nvSpPr>
        <p:spPr>
          <a:xfrm>
            <a:off x="684360" y="6093000"/>
            <a:ext cx="223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3"/>
          <p:cNvSpPr/>
          <p:nvPr/>
        </p:nvSpPr>
        <p:spPr>
          <a:xfrm>
            <a:off x="176364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0" y="4941720"/>
            <a:ext cx="4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  L ASM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6"/>
          <p:cNvSpPr/>
          <p:nvPr/>
        </p:nvSpPr>
        <p:spPr>
          <a:xfrm>
            <a:off x="3851280" y="2887560"/>
            <a:ext cx="2089080" cy="828720"/>
          </a:xfrm>
          <a:prstGeom prst="pie">
            <a:avLst/>
          </a:prstGeom>
          <a:noFill/>
          <a:ln w="3492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8"/>
          <p:cNvSpPr/>
          <p:nvPr/>
        </p:nvSpPr>
        <p:spPr>
          <a:xfrm>
            <a:off x="8101080" y="3645000"/>
            <a:ext cx="79200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9"/>
          <p:cNvSpPr/>
          <p:nvPr/>
        </p:nvSpPr>
        <p:spPr>
          <a:xfrm flipH="1">
            <a:off x="7740720" y="4292640"/>
            <a:ext cx="287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0"/>
          <p:cNvSpPr/>
          <p:nvPr/>
        </p:nvSpPr>
        <p:spPr>
          <a:xfrm>
            <a:off x="7596360" y="3573360"/>
            <a:ext cx="431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1"/>
          <p:cNvSpPr/>
          <p:nvPr/>
        </p:nvSpPr>
        <p:spPr>
          <a:xfrm flipH="1" flipV="1">
            <a:off x="6300720" y="479700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2"/>
          <p:cNvSpPr/>
          <p:nvPr/>
        </p:nvSpPr>
        <p:spPr>
          <a:xfrm flipH="1">
            <a:off x="6443640" y="4294080"/>
            <a:ext cx="50328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3"/>
          <p:cNvSpPr/>
          <p:nvPr/>
        </p:nvSpPr>
        <p:spPr>
          <a:xfrm>
            <a:off x="457200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4"/>
          <p:cNvSpPr/>
          <p:nvPr/>
        </p:nvSpPr>
        <p:spPr>
          <a:xfrm flipH="1" flipV="1">
            <a:off x="4500360" y="5157360"/>
            <a:ext cx="431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714240" y="142920"/>
            <a:ext cx="10393200" cy="6215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557280" y="6143760"/>
            <a:ext cx="780084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ciencia de Hierro en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8908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emia ferrop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284720" y="1785960"/>
            <a:ext cx="4573440" cy="15958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carne en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baja Hemoglobina, se agotan reservas de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284720" y="3714840"/>
            <a:ext cx="3960720" cy="10360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posee rese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5 CuadroTexto"/>
          <p:cNvSpPr/>
          <p:nvPr/>
        </p:nvSpPr>
        <p:spPr>
          <a:xfrm>
            <a:off x="928800" y="407196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14200" y="3714840"/>
            <a:ext cx="388944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ño prema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285840" y="5286240"/>
            <a:ext cx="392904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usas generales de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4429080" y="5143680"/>
            <a:ext cx="4929120" cy="155160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&lt;&lt; N° glóbulos rojos (G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R más peque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R pobres en 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http://www.nutrinfo.com/imagenes/vademecum/vitina_vegetales.jpg"/>
          <p:cNvPicPr/>
          <p:nvPr/>
        </p:nvPicPr>
        <p:blipFill>
          <a:blip r:embed="rId1"/>
          <a:stretch/>
        </p:blipFill>
        <p:spPr>
          <a:xfrm>
            <a:off x="3643200" y="500040"/>
            <a:ext cx="2671920" cy="307188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1457640" y="0"/>
            <a:ext cx="63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Arial"/>
              </a:rPr>
              <a:t>ALIMENTOS FORTIFICADOS CON HI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http://www.timbo.com.ar/images/productos/celusal_18.png"/>
          <p:cNvPicPr/>
          <p:nvPr/>
        </p:nvPicPr>
        <p:blipFill>
          <a:blip r:embed="rId2"/>
          <a:stretch/>
        </p:blipFill>
        <p:spPr>
          <a:xfrm>
            <a:off x="4786200" y="1714680"/>
            <a:ext cx="5061240" cy="4143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www.app.saota.org.ar/files/387_0.JPG"/>
          <p:cNvPicPr/>
          <p:nvPr/>
        </p:nvPicPr>
        <p:blipFill>
          <a:blip r:embed="rId3"/>
          <a:stretch/>
        </p:blipFill>
        <p:spPr>
          <a:xfrm>
            <a:off x="2214720" y="371484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http://www.nutrinfo.com/imagenes/vademecum/leche_descremada_hierro_ls.jpg"/>
          <p:cNvPicPr/>
          <p:nvPr/>
        </p:nvPicPr>
        <p:blipFill>
          <a:blip r:embed="rId4"/>
          <a:stretch/>
        </p:blipFill>
        <p:spPr>
          <a:xfrm>
            <a:off x="428760" y="642960"/>
            <a:ext cx="2286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56640" cy="6618240"/>
          </a:xfrm>
          <a:prstGeom prst="rect">
            <a:avLst/>
          </a:prstGeom>
          <a:ln w="0">
            <a:noFill/>
          </a:ln>
        </p:spPr>
      </p:pic>
      <p:sp>
        <p:nvSpPr>
          <p:cNvPr id="440" name="5 CuadroTexto"/>
          <p:cNvSpPr/>
          <p:nvPr/>
        </p:nvSpPr>
        <p:spPr>
          <a:xfrm>
            <a:off x="6719760" y="235728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erro: Absor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porte,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-149400" y="1071720"/>
            <a:ext cx="9585360" cy="5072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628560" y="6143760"/>
            <a:ext cx="7801200" cy="51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4690800" cy="6713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857920" y="6415200"/>
            <a:ext cx="3085920" cy="442800"/>
          </a:xfrm>
          <a:prstGeom prst="rect">
            <a:avLst/>
          </a:prstGeom>
          <a:ln w="0">
            <a:noFill/>
          </a:ln>
        </p:spPr>
      </p:pic>
      <p:sp>
        <p:nvSpPr>
          <p:cNvPr id="445" name="3 CuadroTexto"/>
          <p:cNvSpPr/>
          <p:nvPr/>
        </p:nvSpPr>
        <p:spPr>
          <a:xfrm>
            <a:off x="5797800" y="114300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OLIGO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TRAZ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3 CuadroTexto"/>
          <p:cNvSpPr/>
          <p:nvPr/>
        </p:nvSpPr>
        <p:spPr>
          <a:xfrm>
            <a:off x="214200" y="85716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¿Cuándo necesitaré de los conocimientos sobre MINERA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A un paciente con anemia ¿qué alimentos ricos en hierro se deben recomend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¿Cuál es la frecuencia de consumo semanal de alimentos rico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cio, hierro, magnesio y zin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ste equipo femenino de hockey sobre cés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La dieta individual para esta mujer de 65 años ¿cubre las necesidades de calcio, hierro, magnesio y zinc? Usar tablas de composición de alimentos o el programa informático ade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71280"/>
            <a:ext cx="835812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MINERALES </a:t>
            </a:r>
            <a:br>
              <a:rPr sz="3200"/>
            </a:br>
            <a:r>
              <a:rPr b="1" lang="es-ES_tradnl" sz="2000" spc="-1" strike="noStrike">
                <a:solidFill>
                  <a:srgbClr val="c00000"/>
                </a:solidFill>
                <a:latin typeface="Arial"/>
                <a:ea typeface="Calibri"/>
              </a:rPr>
              <a:t>Criterio: CANTIDAD REQUERIDA EN LA DIETA NORMAL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9680" y="1571400"/>
            <a:ext cx="8280360" cy="514332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) MACRO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R mayor a 100 mg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urante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) MICROELEMENTOS                          (Olig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R menor a 100 mg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00760" y="1630440"/>
            <a:ext cx="252072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4786200" y="4486320"/>
            <a:ext cx="3313080" cy="1728720"/>
          </a:xfrm>
          <a:prstGeom prst="ellipse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F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929120" y="2776680"/>
            <a:ext cx="2786040" cy="136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K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 CuadroTexto"/>
          <p:cNvSpPr/>
          <p:nvPr/>
        </p:nvSpPr>
        <p:spPr>
          <a:xfrm>
            <a:off x="536760" y="8571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IR = Ingesta de Referenci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cantidad de nutriente que se consi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ficiente para la mayoría de la pob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428760" y="571680"/>
            <a:ext cx="9867960" cy="57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14200" y="6343560"/>
            <a:ext cx="78012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5000760" y="2714760"/>
            <a:ext cx="4032000" cy="2073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9% C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 OS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14880" y="5127480"/>
            <a:ext cx="492912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iq. Intra y Extracelul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% C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0" y="4714920"/>
            <a:ext cx="4143240" cy="168876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(70 kg pe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,2 Kg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5796000" y="1342080"/>
            <a:ext cx="2809440" cy="1331280"/>
            <a:chOff x="5796000" y="1342080"/>
            <a:chExt cx="2809440" cy="1331280"/>
          </a:xfrm>
        </p:grpSpPr>
        <p:pic>
          <p:nvPicPr>
            <p:cNvPr id="85" name="Picture 8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 rot="16200000">
              <a:off x="6575760" y="6436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9"/>
            <p:cNvSpPr/>
            <p:nvPr/>
          </p:nvSpPr>
          <p:spPr>
            <a:xfrm rot="16200000">
              <a:off x="7113600" y="2211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0"/>
            <p:cNvSpPr/>
            <p:nvPr/>
          </p:nvSpPr>
          <p:spPr>
            <a:xfrm rot="16200000">
              <a:off x="7206480" y="114696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2" descr="https://encrypted-tbn1.gstatic.com/images?q=tbn:ANd9GcTh3Qvf1EYaPQDw9Yr06uTVd1wZAGrdm-r6U7fQmu2V8jymtP-d7w"/>
          <p:cNvPicPr/>
          <p:nvPr/>
        </p:nvPicPr>
        <p:blipFill>
          <a:blip r:embed="rId2"/>
          <a:stretch/>
        </p:blipFill>
        <p:spPr>
          <a:xfrm>
            <a:off x="285840" y="1228680"/>
            <a:ext cx="4562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CALCIO EN EL PLASM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5 mEq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00000" y="2428920"/>
            <a:ext cx="3456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iónico (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0000" y="3762360"/>
            <a:ext cx="77439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unido a proteínas (Albúmina)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00000" y="4869000"/>
            <a:ext cx="78152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no ionizable, unido a citrato ó lactato, en forma de sales no disociables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4356000" y="1628640"/>
            <a:ext cx="4392720" cy="1943280"/>
            <a:chOff x="4356000" y="1628640"/>
            <a:chExt cx="4392720" cy="1943280"/>
          </a:xfrm>
        </p:grpSpPr>
        <p:sp>
          <p:nvSpPr>
            <p:cNvPr id="94" name="Oval 9"/>
            <p:cNvSpPr/>
            <p:nvPr/>
          </p:nvSpPr>
          <p:spPr>
            <a:xfrm>
              <a:off x="5796000" y="1628640"/>
              <a:ext cx="2952720" cy="194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ORMA ACTIV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H="1">
              <a:off x="4356000" y="2924280"/>
              <a:ext cx="144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8 CuadroTexto"/>
          <p:cNvSpPr/>
          <p:nvPr/>
        </p:nvSpPr>
        <p:spPr>
          <a:xfrm>
            <a:off x="2658960" y="62866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Eq = (mg X valencia) / Peso At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UNCIONES DEL 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6760" y="1285920"/>
            <a:ext cx="8363160" cy="52862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eralización de huesos y 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fosfato cálcico ó hidroxiapat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gundo mensaj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acel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itabilidad  nervi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agulación de la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s://encrypted-tbn3.gstatic.com/images?q=tbn:ANd9GcT1nB0xJtPIiNaEz6p6q1-N9a09JX9ZmlsZudzO7mSk0MsYDVfFbw"/>
          <p:cNvPicPr/>
          <p:nvPr/>
        </p:nvPicPr>
        <p:blipFill>
          <a:blip r:embed="rId1"/>
          <a:stretch/>
        </p:blipFill>
        <p:spPr>
          <a:xfrm>
            <a:off x="7072200" y="1857240"/>
            <a:ext cx="1571760" cy="117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s://encrypted-tbn2.gstatic.com/images?q=tbn:ANd9GcSnLzhpTIn6B_kgiTEfASGAyDrB3gd5x_ws2Tjd9bUCVRCzz6WBrQ"/>
          <p:cNvPicPr/>
          <p:nvPr/>
        </p:nvPicPr>
        <p:blipFill>
          <a:blip r:embed="rId2"/>
          <a:stretch/>
        </p:blipFill>
        <p:spPr>
          <a:xfrm>
            <a:off x="5214960" y="2143080"/>
            <a:ext cx="1501920" cy="1754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s://encrypted-tbn1.gstatic.com/images?q=tbn:ANd9GcSF3LujK623MQL9EsVTXYFVnI5sdMlk9kc8qOVVLN3EkKRvau1soA"/>
          <p:cNvPicPr/>
          <p:nvPr/>
        </p:nvPicPr>
        <p:blipFill>
          <a:blip r:embed="rId3"/>
          <a:stretch/>
        </p:blipFill>
        <p:spPr>
          <a:xfrm>
            <a:off x="6891480" y="3500280"/>
            <a:ext cx="1895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7:45Z</dcterms:created>
  <dc:creator>Usuario</dc:creator>
  <dc:description/>
  <dc:language>en-US</dc:language>
  <cp:lastModifiedBy>ali y facu</cp:lastModifiedBy>
  <dcterms:modified xsi:type="dcterms:W3CDTF">2015-11-05T14:58:53Z</dcterms:modified>
  <cp:revision>246</cp:revision>
  <dc:subject/>
  <dc:title>BIOELEMENTOS</dc:title>
</cp:coreProperties>
</file>